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8C35-4AEF-44E1-8962-BA2427038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0" y="413064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DAE1-B737-4045-90C9-2F347A27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6596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E1FF-3289-41C7-8B60-26733C3C8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4996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1428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4996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1428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2D8F-79CF-4469-A494-533432F5E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121B-6827-4018-BBC1-0215C4316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173E-93A1-45BA-800F-429BA623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73AF-9876-4E55-BF68-3135814A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D9CF-8494-49E2-8379-3830346E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D659-79EC-4E7C-86F7-6339A979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920" y="60912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5B1EA-027F-4372-82E9-077C36FE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4C45-B1A0-4E16-ADDE-4E71D473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04D5-9487-42BA-B731-92EE85EC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6596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A35B-6863-4822-BB28-2FF6049F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0" y="413064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043F-D6BB-49A4-AD1E-C911D817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0" y="413064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3CD2-5A17-4E81-A0EA-3517CF7C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6596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F67AE-5701-4742-9DB1-7E2036897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4996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1428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44996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1428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D2B9B-B11A-47A2-A1DF-3BF09FE16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7F5A-8B88-4E05-B49A-3916C714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27D0-14F7-473F-BE0A-1867D22D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6661-FD87-4A14-81E5-6DB41387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920" y="60912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2D07-3FD1-4043-8554-0B1176AB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8D61-58C0-49D1-BBF1-59158E78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6596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811D-F438-4820-9376-AA724151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0" y="413064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0B54-A4D7-4082-BB03-E4DF3D87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0" y="1981080"/>
            <a:ext cx="64008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ff8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ff8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Verdana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Verdana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CA5F-421D-420E-9718-558EE0B161AF}" type="slidenum">
              <a:rPr b="0" lang="en-US" sz="1400" spc="-1" strike="noStrike">
                <a:solidFill>
                  <a:srgbClr val="ffff00"/>
                </a:solidFill>
                <a:latin typeface="Verdana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6520" y="2285640"/>
            <a:ext cx="579132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Verdana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Verdana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BB3B-88D1-448C-A1EF-A0EDA46CBA79}" type="slidenum">
              <a:rPr b="0" lang="en-US" sz="1400" spc="-1" strike="noStrike">
                <a:solidFill>
                  <a:srgbClr val="ffff00"/>
                </a:solidFill>
                <a:latin typeface="Verdana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8000"/>
              </a:buClr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66520" y="2285640"/>
            <a:ext cx="579132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Jayden’s awesome power point presentation 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666520" y="4419720"/>
            <a:ext cx="579132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Introducing  Possessive  Apostrophes 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Jaydens great computer= Jayden’s great computer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1240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Find the owner</a:t>
            </a:r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3200400"/>
            <a:ext cx="6400800" cy="825480"/>
          </a:xfrm>
          <a:prstGeom prst="rect">
            <a:avLst/>
          </a:prstGeom>
          <a:solidFill>
            <a:srgbClr val="821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                   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Jayden</a:t>
            </a:r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3429000"/>
            <a:ext cx="35053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411480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Lucida Grande"/>
                <a:ea typeface="ヒラギノ角ゴ Pro W3"/>
              </a:rPr>
              <a:t>  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Lucida Grande"/>
                <a:ea typeface="ヒラギノ角ゴ Pro W3"/>
              </a:rPr>
              <a:t>Jayden’</a:t>
            </a:r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96252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Add apostrophe</a:t>
            </a:r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90" name=""/>
          <p:cNvSpPr/>
          <p:nvPr/>
        </p:nvSpPr>
        <p:spPr>
          <a:xfrm>
            <a:off x="1752480" y="4343400"/>
            <a:ext cx="36576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91" name=""/>
          <p:cNvSpPr/>
          <p:nvPr/>
        </p:nvSpPr>
        <p:spPr>
          <a:xfrm>
            <a:off x="1981080" y="510552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            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Jayden’s</a:t>
            </a:r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0292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Add s if there is’t an s</a:t>
            </a:r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828800" y="5410080"/>
            <a:ext cx="3809880" cy="763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omas Xbox= Thomas’ X-box 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1240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Find the owner</a:t>
            </a:r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96" name=""/>
          <p:cNvSpPr/>
          <p:nvPr/>
        </p:nvSpPr>
        <p:spPr>
          <a:xfrm>
            <a:off x="1676520" y="3200400"/>
            <a:ext cx="6400800" cy="825480"/>
          </a:xfrm>
          <a:prstGeom prst="rect">
            <a:avLst/>
          </a:prstGeom>
          <a:solidFill>
            <a:srgbClr val="821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                   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Thomas</a:t>
            </a:r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3429000"/>
            <a:ext cx="35053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411480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Lucida Grande"/>
                <a:ea typeface="ヒラギノ角ゴ Pro W3"/>
              </a:rPr>
              <a:t>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Lucida Grande"/>
                <a:ea typeface="ヒラギノ角ゴ Pro W3"/>
              </a:rPr>
              <a:t>Thomas’</a:t>
            </a:r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96252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Add apostrophe</a:t>
            </a:r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343400"/>
            <a:ext cx="36576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101" name=""/>
          <p:cNvSpPr/>
          <p:nvPr/>
        </p:nvSpPr>
        <p:spPr>
          <a:xfrm>
            <a:off x="1981080" y="510552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            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Thomas’</a:t>
            </a:r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0292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Add s if there is’t an s</a:t>
            </a:r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828800" y="5410080"/>
            <a:ext cx="3809880" cy="763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Joshs football=Josh’s football 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1240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Find the owner</a:t>
            </a:r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3200400"/>
            <a:ext cx="6400800" cy="825480"/>
          </a:xfrm>
          <a:prstGeom prst="rect">
            <a:avLst/>
          </a:prstGeom>
          <a:solidFill>
            <a:srgbClr val="821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Josh</a:t>
            </a:r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3429000"/>
            <a:ext cx="35053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108" name=""/>
          <p:cNvSpPr/>
          <p:nvPr/>
        </p:nvSpPr>
        <p:spPr>
          <a:xfrm>
            <a:off x="1676520" y="411480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Lucida Grande"/>
                <a:ea typeface="ヒラギノ角ゴ Pro W3"/>
              </a:rPr>
              <a:t>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Lucida Grande"/>
                <a:ea typeface="ヒラギノ角ゴ Pro W3"/>
              </a:rPr>
              <a:t>Josh’</a:t>
            </a:r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96252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Add apostrophe</a:t>
            </a:r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4343400"/>
            <a:ext cx="36576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111" name=""/>
          <p:cNvSpPr/>
          <p:nvPr/>
        </p:nvSpPr>
        <p:spPr>
          <a:xfrm>
            <a:off x="1981080" y="510552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            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Josh’s</a:t>
            </a:r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02920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Add s if there isn’t an s</a:t>
            </a:r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828800" y="5410080"/>
            <a:ext cx="3809880" cy="763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Can not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8195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Take out not</a:t>
            </a:r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3200400"/>
            <a:ext cx="6400800" cy="825480"/>
          </a:xfrm>
          <a:prstGeom prst="rect">
            <a:avLst/>
          </a:prstGeom>
          <a:solidFill>
            <a:srgbClr val="821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Can</a:t>
            </a:r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3429000"/>
            <a:ext cx="35053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411480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Lucida Grande"/>
                <a:ea typeface="ヒラギノ角ゴ Pro W3"/>
              </a:rPr>
              <a:t>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Lucida Grande"/>
                <a:ea typeface="ヒラギノ角ゴ Pro W3"/>
              </a:rPr>
              <a:t>Can’</a:t>
            </a:r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96252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Add apostrophe</a:t>
            </a:r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4343400"/>
            <a:ext cx="36576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121" name=""/>
          <p:cNvSpPr/>
          <p:nvPr/>
        </p:nvSpPr>
        <p:spPr>
          <a:xfrm>
            <a:off x="1981080" y="510552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            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Can’t</a:t>
            </a:r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Add the t</a:t>
            </a:r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828800" y="5410080"/>
            <a:ext cx="3809880" cy="763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Do not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81952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Write base words</a:t>
            </a:r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126" name=""/>
          <p:cNvSpPr/>
          <p:nvPr/>
        </p:nvSpPr>
        <p:spPr>
          <a:xfrm>
            <a:off x="1676520" y="3200400"/>
            <a:ext cx="6400800" cy="825480"/>
          </a:xfrm>
          <a:prstGeom prst="rect">
            <a:avLst/>
          </a:prstGeom>
          <a:solidFill>
            <a:srgbClr val="821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Do not</a:t>
            </a:r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3429000"/>
            <a:ext cx="35053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411480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Lucida Grande"/>
                <a:ea typeface="ヒラギノ角ゴ Pro W3"/>
              </a:rPr>
              <a:t>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Lucida Grande"/>
                <a:ea typeface="ヒラギノ角ゴ Pro W3"/>
              </a:rPr>
              <a:t>Dont</a:t>
            </a:r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886200"/>
            <a:ext cx="198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Delete the letters you do not need</a:t>
            </a:r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343400"/>
            <a:ext cx="36576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131" name=""/>
          <p:cNvSpPr/>
          <p:nvPr/>
        </p:nvSpPr>
        <p:spPr>
          <a:xfrm>
            <a:off x="1981080" y="510552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            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Don’t</a:t>
            </a:r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518148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Add the ‘ where you took the letters out </a:t>
            </a:r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828800" y="5410080"/>
            <a:ext cx="3809880" cy="763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2T04:16:40Z</dcterms:created>
  <dc:creator>502</dc:creator>
  <dc:description/>
  <dc:language>en-US</dc:language>
  <cp:lastModifiedBy>502</cp:lastModifiedBy>
  <dcterms:modified xsi:type="dcterms:W3CDTF">2009-08-12T04:19:40Z</dcterms:modified>
  <cp:revision>4</cp:revision>
  <dc:subject/>
  <dc:title>Jayden’s awesome power point presentation </dc:title>
</cp:coreProperties>
</file>